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4F13-57CF-48F4-B9A9-79C5F594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53F4-00D5-454F-BC6C-95436536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5B80-CD50-43D8-A043-1EB7F28E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8FC-7701-4978-95C9-23BDF070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D44-9E68-4981-A5A3-F2DE306C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C5B-052F-477F-9733-603F4375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A7B-DCB3-4C2D-998F-63AA4787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54F9-E50A-48D5-9D2D-C98C2140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5037-6A30-4428-8551-E67FAE4C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9B4-64B3-4184-A250-8BAE5826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948-BCFD-42DE-AEF4-744B99FA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1B5-6A03-40A5-BFDA-BD1B24EF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5A95-3ADC-46EC-B31C-6D11F37F5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6 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5 de febr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4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te intere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oking at the pictures on the bottom of p. 24, answer the follow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do juegan México y Hondur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ónde juegan México y Hondur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deporte jueg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.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.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leta p. 15-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leta p.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5720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5:48:13Z</dcterms:created>
  <dc:creator>Helen Zumaeta</dc:creator>
  <dc:description/>
  <dc:language>en-US</dc:language>
  <cp:lastModifiedBy>Helen Zumaeta</cp:lastModifiedBy>
  <dcterms:modified xsi:type="dcterms:W3CDTF">2013-02-26T21:02:23Z</dcterms:modified>
  <cp:revision>9</cp:revision>
  <dc:subject/>
  <dc:title>Me llamo ________ Clase 6 nh/il La fecha es el 13 de junio del 2011</dc:title>
</cp:coreProperties>
</file>